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063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5AD-E5A9-4FE1-8102-F60B77CF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503-9F32-4D6B-82CE-36D545A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82F-0B45-462F-8AF8-7278D4BC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61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15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7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61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15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8DA-C957-429F-BDAA-3C750648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76"/>
              </a:spcBef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C21-1CFE-4FCF-951E-ABBACB84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2D0-B7A3-4D2D-B0F0-53C9A91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745-8607-4E6B-8ED1-3E4C1203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53C-5F6C-473F-9D80-B90082A5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720" y="428400"/>
            <a:ext cx="388792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76"/>
              </a:spcBef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7AD-A8ED-4A21-B7CD-55F75865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F47-FD12-42D5-8729-E138D57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F9A-9F6F-4A9C-AB94-A7927FCE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9DF-9BCB-4076-8DD6-5B05336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720" y="428400"/>
            <a:ext cx="3887928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1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50000"/>
          </a:bodyPr>
          <a:p>
            <a:pPr marL="576000" indent="-57600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1" marL="1249920" indent="-48024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2" marL="1923840" indent="-38412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3" marL="2693880" indent="-38412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4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5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6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720" y="9909000"/>
            <a:ext cx="1367928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072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fld id="{D402987C-E0DE-46FD-9459-695AE4C165E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"/>
          <p:cNvPicPr/>
          <p:nvPr/>
        </p:nvPicPr>
        <p:blipFill>
          <a:blip r:embed="rId1"/>
          <a:stretch/>
        </p:blipFill>
        <p:spPr>
          <a:xfrm>
            <a:off x="0" y="0"/>
            <a:ext cx="43200720" cy="10688760"/>
          </a:xfrm>
          <a:prstGeom prst="rect">
            <a:avLst/>
          </a:prstGeom>
          <a:ln w="0">
            <a:noFill/>
          </a:ln>
        </p:spPr>
      </p:pic>
      <p:sp>
        <p:nvSpPr>
          <p:cNvPr id="42" name="正方形/長方形 4"/>
          <p:cNvSpPr/>
          <p:nvPr/>
        </p:nvSpPr>
        <p:spPr>
          <a:xfrm>
            <a:off x="3183480" y="446868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アメリカンコーヒ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57"/>
          <p:cNvSpPr/>
          <p:nvPr/>
        </p:nvSpPr>
        <p:spPr>
          <a:xfrm>
            <a:off x="3011760" y="801540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ブレンドコーヒ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58"/>
          <p:cNvSpPr/>
          <p:nvPr/>
        </p:nvSpPr>
        <p:spPr>
          <a:xfrm>
            <a:off x="9914040" y="5334120"/>
            <a:ext cx="254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280 </a:t>
            </a:r>
            <a:r>
              <a:rPr b="0" lang="ja-JP" sz="66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59"/>
          <p:cNvSpPr/>
          <p:nvPr/>
        </p:nvSpPr>
        <p:spPr>
          <a:xfrm>
            <a:off x="9914040" y="8848800"/>
            <a:ext cx="254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380 </a:t>
            </a:r>
            <a:r>
              <a:rPr b="0" lang="ja-JP" sz="66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1"/>
          <p:cNvSpPr/>
          <p:nvPr/>
        </p:nvSpPr>
        <p:spPr>
          <a:xfrm>
            <a:off x="14694840" y="3616200"/>
            <a:ext cx="3114360" cy="61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カフェラ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カフェモカ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キャラメルラ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アイスココ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アイスコーヒ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ミルクティ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60"/>
          <p:cNvSpPr/>
          <p:nvPr/>
        </p:nvSpPr>
        <p:spPr>
          <a:xfrm>
            <a:off x="19719360" y="3616200"/>
            <a:ext cx="5340240" cy="61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22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 　 </a:t>
            </a: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37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22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 　 </a:t>
            </a: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37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23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 　 </a:t>
            </a: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38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22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 　 </a:t>
            </a: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37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20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 　 </a:t>
            </a: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35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25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 　 </a:t>
            </a:r>
            <a:r>
              <a:rPr b="0" lang="en-US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390 </a:t>
            </a:r>
            <a:r>
              <a:rPr b="0" lang="ja-JP" sz="55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7:53:09Z</dcterms:created>
  <dc:creator>seisaku</dc:creator>
  <dc:description/>
  <dc:language>en-US</dc:language>
  <cp:lastModifiedBy>VISION</cp:lastModifiedBy>
  <dcterms:modified xsi:type="dcterms:W3CDTF">2015-09-24T03:12:46Z</dcterms:modified>
  <cp:revision>34</cp:revision>
  <dc:subject/>
  <dc:title>スライド 1</dc:title>
</cp:coreProperties>
</file>